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60280" y="682200"/>
            <a:ext cx="45385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6040" rIns="8604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14960"/>
            <a:ext cx="5486400" cy="4086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277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277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903F4DAD-77F8-49B4-BA3E-89B4AF39259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1D318F58-BEE7-4D0B-89FE-297EBFB3C79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5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14960"/>
            <a:ext cx="5486400" cy="40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040" rIns="8604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lcome and introductions – name, position, board 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1A1DC621-0274-4FFA-9561-EBC0CA4247E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5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14960"/>
            <a:ext cx="5486400" cy="40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marL="21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ick’s theorem says: Count the pegs on the exterior edges of the shape and divide by 2. Then add to this value the number of pegs inside the shape and subtract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rea = outside pegs </a:t>
            </a:r>
            <a:r>
              <a:rPr b="0" lang="en-CA" sz="1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CA" sz="1200" spc="-1" strike="noStrike">
                <a:solidFill>
                  <a:srgbClr val="000000"/>
                </a:solidFill>
                <a:latin typeface="ヒラギノ角ゴ ProN W3"/>
              </a:rPr>
              <a:t> 2 + inside pegs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ヒラギノ角ゴ ProN W3"/>
              </a:rPr>
              <a:t>Pick’s Theorem works for all polygons from rectangles to complex sha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F1CC6A-D761-463A-BF27-FF1757CFB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BCE7DA64-8382-412F-B5AB-6968CAF80BB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5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14960"/>
            <a:ext cx="5486400" cy="40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marL="21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ick’s theorem says: Count the pegs on the exterior edges of the shape and divide by 2. Then add to this value the number of pegs inside the shape and subtract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rea = outside pegs </a:t>
            </a:r>
            <a:r>
              <a:rPr b="0" lang="en-CA" sz="1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CA" sz="1200" spc="-1" strike="noStrike">
                <a:solidFill>
                  <a:srgbClr val="000000"/>
                </a:solidFill>
                <a:latin typeface="ヒラギノ角ゴ ProN W3"/>
              </a:rPr>
              <a:t> 2 + inside pegs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ヒラギノ角ゴ ProN W3"/>
              </a:rPr>
              <a:t>Pick’s Theorem works for all polygons from rectangles to complex sha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08CC4D-DB87-4DDD-B2DC-77BC94B64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F7D93E37-5D97-4823-A43C-D2B93536BB3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5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14960"/>
            <a:ext cx="5486400" cy="40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70B116-E8D6-44D2-9819-73C354BA3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8ABC64F8-3D2C-4148-B407-51DFEE11520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5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14960"/>
            <a:ext cx="5486400" cy="40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F1B6FEF-0C73-4871-A0BB-9F9F26BEC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526EB014-DE24-49B4-A2C1-F7223FC144A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5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14960"/>
            <a:ext cx="5486400" cy="40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F36EF6-5D9C-4E3E-A163-2C1EB9C26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F6C28F0D-9070-4E90-B1C5-391C425E7E4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5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14960"/>
            <a:ext cx="5486400" cy="40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040" rIns="8604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important thing that I learned about linear relations today is …  (5 minu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DD6D-92F6-42E0-B978-332858F9E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681E-2D0C-4C4A-9743-A781A668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8807-2768-4F4A-9F9D-6510A5072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CFF9-521C-4484-95CA-ACF17566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7EAE-336E-4150-A25F-EB246DE7D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8C36-99C2-4E02-9816-C0D2F9A3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A99A-8798-4AB9-A674-4DB7CFC9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2613-F3BB-4BDD-9F2A-24ADB606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F9B8-253E-46F5-AF52-AB54992C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FC23-7CD4-4E48-BE09-8392ADF3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239A-7A83-4954-BCF7-74F03613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69F3-D9C5-4BDF-938B-EEDFC5F6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B34C-2CD5-4EBB-AFA6-D9EAF020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1FC6-991F-4DEF-B89A-48B9A946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661D-D65A-47B5-9068-0AF7A46F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1D41-2D36-46BA-80A9-39483AFBC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9BD7-8F33-4889-8F4E-AC1C45BD6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8DCD-A400-47C2-9F28-01497D47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472A-D799-4C69-8840-CAFFA7C5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A89C-1DF9-4406-85CC-EACA92A9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1737-05FA-40DD-8EC3-30F0A5B1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29C9-1225-43AC-B357-752C73B2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9D3D-4CAD-4FBA-971A-CFB08D51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B5AD-A390-4450-AE51-F8F7011B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3846-EBEF-4BCD-A2DB-63276BE3301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E2F7-309F-48C4-8C1B-70B5D19558F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" name="Picture 8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GAINS_Globe_70smws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06EA-574A-4D67-AC07-A866E20D912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1599840"/>
            <a:ext cx="5715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Linear Growing Patterns &amp; Relations</a:t>
            </a:r>
            <a:br>
              <a:rPr sz="4400"/>
            </a:b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Session 6</a:t>
            </a:r>
            <a:br>
              <a:rPr sz="4400"/>
            </a:b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742840" y="4055760"/>
            <a:ext cx="5715000" cy="128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entury Gothic"/>
              </a:rPr>
              <a:t>Summer Instit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entury Gothic"/>
              </a:rPr>
              <a:t>August 27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2743200" y="58672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entury Gothic"/>
              </a:rPr>
              <a:t>Kaye Appleb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entury Gothic"/>
              </a:rPr>
              <a:t>Silvana Simon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2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BEE7-216E-477A-A75C-DEA68A20C2D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Action - Parallel Tas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09680" y="2095560"/>
            <a:ext cx="8323200" cy="19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In your groups, complete BLM PL 6.1 (Geoboard Task A </a:t>
            </a: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OR</a:t>
            </a: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2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30B3-DF35-44E0-AFEA-BD1E8D3BA21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Action - Parallel Tas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904760"/>
            <a:ext cx="8323200" cy="35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Hi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2801"/>
              </a:spcAft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Use Pick’s Theor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2801"/>
              </a:spcAft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Surround the triangles with rectangles; calculate the area of the rectangle and subtract the area of ‘unnecessary’ tri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2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9FA9-EB58-49E8-B387-3FA15E946F6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8536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Action - Parallel Tas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Discuss with a group who did the other tas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64040">
              <a:lnSpc>
                <a:spcPct val="100000"/>
              </a:lnSpc>
              <a:spcAft>
                <a:spcPts val="28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How are the tasks the same? How are they different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861840" indent="-464040">
              <a:lnSpc>
                <a:spcPct val="100000"/>
              </a:lnSpc>
              <a:spcAft>
                <a:spcPts val="28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What stumbling blocks and big ideas are being addressed by the tasks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861840" indent="-464040">
              <a:lnSpc>
                <a:spcPct val="100000"/>
              </a:lnSpc>
              <a:spcAft>
                <a:spcPts val="28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What do you notice about the consolidation questions for the task? What other questions could you ask to facilitate student learning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2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CC28-E40E-49D6-81E1-FDAB6447DB7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Action - Parallel Tas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• </a:t>
            </a: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Complete BLM PL 6.2 (Task A or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• </a:t>
            </a: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Complete one task from BLM PL 6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2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CAFD-2F53-4FD8-AE8F-67968ACF9BA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212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Consolidate - </a:t>
            </a:r>
            <a:br>
              <a:rPr sz="4400"/>
            </a:b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Strategies for Creating Parallel Tasks: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2473200"/>
            <a:ext cx="8229600" cy="35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Change the level of difficu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 </a:t>
            </a: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Change the type of model o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   </a:t>
            </a: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 </a:t>
            </a: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Change the method of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 </a:t>
            </a: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Use open questions or allow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3472-B7D4-40F6-A1B3-8CE507D0B99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4410000" y="1720800"/>
            <a:ext cx="914400" cy="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9040" y="5983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The Important Boo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The important thing about Parallel Tasks i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1:11:23Z</dcterms:created>
  <dc:creator>Myrna Ingalls</dc:creator>
  <dc:description/>
  <dc:language>en-US</dc:language>
  <cp:lastModifiedBy>Anthony</cp:lastModifiedBy>
  <dcterms:modified xsi:type="dcterms:W3CDTF">2009-08-24T05:39:40Z</dcterms:modified>
  <cp:revision>175</cp:revision>
  <dc:subject/>
  <dc:title>Math GAINS 2008-09</dc:title>
</cp:coreProperties>
</file>